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1.wmf" ContentType="image/x-wmf"/>
  <Override PartName="/ppt/media/image34.wmf" ContentType="image/x-wmf"/>
  <Override PartName="/ppt/media/image9.wmf" ContentType="image/x-wmf"/>
  <Override PartName="/ppt/media/image36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30.png" ContentType="image/png"/>
  <Override PartName="/ppt/media/image13.wmf" ContentType="image/x-wmf"/>
  <Override PartName="/ppt/media/image28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10.png" ContentType="image/png"/>
  <Override PartName="/ppt/media/image45.wmf" ContentType="image/x-wmf"/>
  <Override PartName="/ppt/media/image5.wmf" ContentType="image/x-wmf"/>
  <Override PartName="/ppt/media/image35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E64-C340-4B93-9E9D-0F55DFF5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032-420C-40FB-A36B-7816477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2FE-E138-45B9-8E8F-0E7770EB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7F1-FF3D-4D46-964B-08D3D904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F2B-DC7C-4E34-8D77-C7DE0D2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83B-BCAC-41E9-88B4-9159ACD0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9D6-17E9-43B7-84C7-7DE2C42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9F4-8D30-4C9B-8DB6-A448565E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79B-73F6-427C-8023-1A8EB5C4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81F-2F86-45B0-9626-24417C8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F61-6F60-45B0-B39B-BE3E3B5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E3A-4426-4675-A007-DE9FF07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69A4-D5F9-4F97-8490-2CE64AE1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6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ver-side Programming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ava Serv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254240" y="1488960"/>
            <a:ext cx="6634080" cy="38862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2057400" y="388620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38960" y="3770280"/>
            <a:ext cx="193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rs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ngs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y typical servl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be i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Gateway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G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earliest standard technology used for dynamic server-sid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 bas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information is stored in environment variab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QUERY_STRING, REQUEST_METHOD, HTTP_USER_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executed, output is returned in HTTP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Gateway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can be written in any programming language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quently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ndard for concepts such as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lower (programs normally run in separate processes, not server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1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1600" cy="4835520"/>
          </a:xfrm>
          <a:prstGeom prst="rect">
            <a:avLst/>
          </a:prstGeom>
          <a:ln w="0">
            <a:noFill/>
          </a:ln>
        </p:spPr>
      </p:pic>
      <p:sp>
        <p:nvSpPr>
          <p:cNvPr id="87" name="Oval 4"/>
          <p:cNvSpPr/>
          <p:nvPr/>
        </p:nvSpPr>
        <p:spPr>
          <a:xfrm>
            <a:off x="2286000" y="1676520"/>
            <a:ext cx="1981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27280" y="2971800"/>
            <a:ext cx="419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generated by calling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r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ln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n the servle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Write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1600" cy="4835520"/>
          </a:xfrm>
          <a:prstGeom prst="rect">
            <a:avLst/>
          </a:prstGeom>
          <a:ln w="0">
            <a:noFill/>
          </a:ln>
        </p:spPr>
      </p:pic>
      <p:sp>
        <p:nvSpPr>
          <p:cNvPr id="92" name="Oval 4"/>
          <p:cNvSpPr/>
          <p:nvPr/>
        </p:nvSpPr>
        <p:spPr>
          <a:xfrm>
            <a:off x="2286000" y="5486400"/>
            <a:ext cx="2057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483800" y="537048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ood practice to explicitly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Write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hen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s vs. Java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 not have a </a:t>
            </a:r>
            <a:r>
              <a:rPr b="0" lang="en-US" sz="3200" spc="-1" strike="noStrike">
                <a:solidFill>
                  <a:srgbClr val="333399"/>
                </a:solidFill>
                <a:latin typeface="Lucida Sans Typewriter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mai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point to servlet code is via call to a method (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ex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 with end user is in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 request/response object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HTTP request/response processing is handled by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ervl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 is typically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way to run a servlet (better lat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servlet (make sure that JWSDP libraries are on 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.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to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hared/clas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)start the Tomcat 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lass is name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rvletHe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rowse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localhost:8080/servlet/Servlet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elloCounter"/>
          <p:cNvPicPr/>
          <p:nvPr/>
        </p:nvPicPr>
        <p:blipFill>
          <a:blip r:embed="rId1"/>
          <a:stretch/>
        </p:blipFill>
        <p:spPr>
          <a:xfrm>
            <a:off x="2286000" y="2209680"/>
            <a:ext cx="4648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087560" y="1743120"/>
            <a:ext cx="6968880" cy="3379680"/>
          </a:xfrm>
          <a:prstGeom prst="rect">
            <a:avLst/>
          </a:prstGeom>
          <a:ln w="0">
            <a:noFill/>
          </a:ln>
        </p:spPr>
      </p:pic>
      <p:sp>
        <p:nvSpPr>
          <p:cNvPr id="106" name="Oval 5"/>
          <p:cNvSpPr/>
          <p:nvPr/>
        </p:nvSpPr>
        <p:spPr>
          <a:xfrm>
            <a:off x="1371600" y="2590920"/>
            <a:ext cx="2362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981080" y="4724280"/>
            <a:ext cx="11430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684440" y="2376360"/>
            <a:ext cx="5773680" cy="2113200"/>
          </a:xfrm>
          <a:prstGeom prst="rect">
            <a:avLst/>
          </a:prstGeom>
          <a:ln w="0">
            <a:noFill/>
          </a:ln>
        </p:spPr>
      </p:pic>
      <p:sp>
        <p:nvSpPr>
          <p:cNvPr id="111" name="Oval 5"/>
          <p:cNvSpPr/>
          <p:nvPr/>
        </p:nvSpPr>
        <p:spPr>
          <a:xfrm>
            <a:off x="2590920" y="3581280"/>
            <a:ext cx="838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in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rvlet 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ser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eb sites are distributed over multipl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a single server can (not default) create multiple instances of a single 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 assumption is correct, this servlet does not handl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urrent ac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deal with this later in the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in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ometimes referred to a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ynamic 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ages that include scripting are often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ges (vs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 API life cycl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ini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lled when servlet is instantiated; must return before any other methods will b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servic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ethod called directly by server when an HTTP request is received; defaul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rvic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call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related methods covered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estroy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lled when server shut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65280" y="1395360"/>
            <a:ext cx="6012000" cy="407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715280" y="125568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ample life cycle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empt to initializ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isits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2819520" y="1371600"/>
            <a:ext cx="685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362320" y="2743200"/>
            <a:ext cx="7617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3047760" y="2209680"/>
            <a:ext cx="1904760" cy="6098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565280" y="1395360"/>
            <a:ext cx="6012000" cy="4075200"/>
          </a:xfrm>
          <a:prstGeom prst="rect">
            <a:avLst/>
          </a:prstGeom>
          <a:ln w="0">
            <a:noFill/>
          </a:ln>
        </p:spPr>
      </p:pic>
      <p:sp>
        <p:nvSpPr>
          <p:cNvPr id="128" name="Oval 4"/>
          <p:cNvSpPr/>
          <p:nvPr/>
        </p:nvSpPr>
        <p:spPr>
          <a:xfrm>
            <a:off x="3352680" y="3505320"/>
            <a:ext cx="2133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3352680" y="4419720"/>
            <a:ext cx="2133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14360" y="510552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ception to be th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initialization fails and 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hould not be instan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V="1">
            <a:off x="3124080" y="4800240"/>
            <a:ext cx="38124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2819520" y="3809520"/>
            <a:ext cx="838080" cy="12193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quest object (which implement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tpServlet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rovides information from the HTTP request to the 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ype of information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rameter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is information from the query string portion of the HTTP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400800" cy="3384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6324480" y="5334120"/>
            <a:ext cx="13716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251040" y="586728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Query st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 data is the Web analog of arguments in a method 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tring 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4010040" cy="458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65102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tring 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arameters separated by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parameters does no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ameter values are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705360" cy="36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7162920" cy="292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1371600" y="4876920"/>
            <a:ext cx="6095880" cy="320400"/>
          </a:xfrm>
          <a:prstGeom prst="rect">
            <a:avLst/>
          </a:prstGeom>
          <a:ln w="0">
            <a:noFill/>
          </a:ln>
        </p:spPr>
      </p:pic>
      <p:sp>
        <p:nvSpPr>
          <p:cNvPr id="150" name="Oval 7"/>
          <p:cNvSpPr/>
          <p:nvPr/>
        </p:nvSpPr>
        <p:spPr>
          <a:xfrm>
            <a:off x="5791320" y="4876920"/>
            <a:ext cx="5331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17320" y="52941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mpt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 names and values can be any 8-bit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RL en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represent non-alphanumeric charac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RL de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ied by server to retrieve intended name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781680" cy="351000"/>
          </a:xfrm>
          <a:prstGeom prst="rect">
            <a:avLst/>
          </a:prstGeom>
          <a:ln w="0">
            <a:noFill/>
          </a:ln>
        </p:spPr>
      </p:pic>
      <p:sp>
        <p:nvSpPr>
          <p:cNvPr id="156" name="Oval 5"/>
          <p:cNvSpPr/>
          <p:nvPr/>
        </p:nvSpPr>
        <p:spPr>
          <a:xfrm>
            <a:off x="5791320" y="3809880"/>
            <a:ext cx="22860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023520" y="43434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r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‘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 Strin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82600" y="1660680"/>
            <a:ext cx="67770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rintThis"/>
          <p:cNvPicPr/>
          <p:nvPr/>
        </p:nvPicPr>
        <p:blipFill>
          <a:blip r:embed="rId1"/>
          <a:stretch/>
        </p:blipFill>
        <p:spPr>
          <a:xfrm>
            <a:off x="1828800" y="2306520"/>
            <a:ext cx="53341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213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web server response can be static or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TML document is retrieved from the file system and returned to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TML document is generated by a program in response to an HTTP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ervlets are one technology for producing dynamic server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rv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ass instantiated by the server to produce a dynamic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21360" cy="360684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1676520" y="1981080"/>
            <a:ext cx="22860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16000" y="1143000"/>
            <a:ext cx="47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escape XML special charact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user-supplied data before adding t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void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ross-site scripti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ite scri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447920" y="25146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678320" y="2743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3124080" y="297180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638680" y="2971800"/>
            <a:ext cx="205740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870880" y="32004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ging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432960" y="243828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cript&gt;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447920" y="4495680"/>
            <a:ext cx="1676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3123720" y="373392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720960" y="44560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er’s comment (and scr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754280" y="47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21360" cy="3606840"/>
          </a:xfrm>
          <a:prstGeom prst="rect">
            <a:avLst/>
          </a:prstGeom>
          <a:ln w="0">
            <a:noFill/>
          </a:ln>
        </p:spPr>
      </p:pic>
      <p:sp>
        <p:nvSpPr>
          <p:cNvPr id="188" name="Oval 4"/>
          <p:cNvSpPr/>
          <p:nvPr/>
        </p:nvSpPr>
        <p:spPr>
          <a:xfrm>
            <a:off x="3657600" y="4419720"/>
            <a:ext cx="13716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722760" y="476100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so need to escape quotes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71720" y="2116080"/>
            <a:ext cx="5199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cally generates a query string when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d by value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es of form contro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s on control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523880" y="3670200"/>
            <a:ext cx="5791320" cy="34128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>
            <a:off x="3809880" y="3657600"/>
            <a:ext cx="19814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239240" cy="833400"/>
          </a:xfrm>
          <a:prstGeom prst="rect">
            <a:avLst/>
          </a:prstGeom>
          <a:ln w="0">
            <a:noFill/>
          </a:ln>
        </p:spPr>
      </p:pic>
      <p:sp>
        <p:nvSpPr>
          <p:cNvPr id="199" name="Oval 8"/>
          <p:cNvSpPr/>
          <p:nvPr/>
        </p:nvSpPr>
        <p:spPr>
          <a:xfrm>
            <a:off x="5943600" y="4876920"/>
            <a:ext cx="1600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247360" y="529416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for check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pecified b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lu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ifeStoryFilled"/>
          <p:cNvPicPr/>
          <p:nvPr/>
        </p:nvPicPr>
        <p:blipFill>
          <a:blip r:embed="rId1"/>
          <a:stretch/>
        </p:blipFill>
        <p:spPr>
          <a:xfrm>
            <a:off x="1371600" y="1757520"/>
            <a:ext cx="6553080" cy="34225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5946480" y="2286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631560" y="4114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fe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043880" y="464832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xgroup1 (values same as lab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 flipV="1">
            <a:off x="3733920" y="4343040"/>
            <a:ext cx="45720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H="1" flipV="1">
            <a:off x="4190760" y="4343040"/>
            <a:ext cx="15228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4724280" y="4343040"/>
            <a:ext cx="15264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754640" y="4800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tring produced by browser (all one li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232320" cy="536400"/>
          </a:xfrm>
          <a:prstGeom prst="rect">
            <a:avLst/>
          </a:prstGeom>
          <a:ln w="0">
            <a:noFill/>
          </a:ln>
        </p:spPr>
      </p:pic>
      <p:sp>
        <p:nvSpPr>
          <p:cNvPr id="218" name="Oval 5"/>
          <p:cNvSpPr/>
          <p:nvPr/>
        </p:nvSpPr>
        <p:spPr>
          <a:xfrm>
            <a:off x="1371600" y="2971800"/>
            <a:ext cx="1143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562720" y="2666880"/>
            <a:ext cx="11430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277000" y="36180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eckbox parameters have same name valu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 checked boxes have correspond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H="1" flipV="1">
            <a:off x="2361960" y="3352320"/>
            <a:ext cx="60948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 flipH="1" flipV="1">
            <a:off x="5714640" y="2971440"/>
            <a:ext cx="15228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vs. POST method for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string is part of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query string may be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when parameter data is not stored but used only to request inform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search engine qu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RL can be bookmarked or emailed and the same data will be passed to the server when the URL i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GoogleSearch"/>
          <p:cNvPicPr/>
          <p:nvPr/>
        </p:nvPicPr>
        <p:blipFill>
          <a:blip r:embed="rId1"/>
          <a:stretch/>
        </p:blipFill>
        <p:spPr>
          <a:xfrm>
            <a:off x="533520" y="1614600"/>
            <a:ext cx="8153280" cy="4221000"/>
          </a:xfrm>
          <a:prstGeom prst="rect">
            <a:avLst/>
          </a:prstGeom>
          <a:ln w="0">
            <a:noFill/>
          </a:ln>
        </p:spPr>
      </p:pic>
      <p:sp>
        <p:nvSpPr>
          <p:cNvPr id="229" name="Oval 5"/>
          <p:cNvSpPr/>
          <p:nvPr/>
        </p:nvSpPr>
        <p:spPr>
          <a:xfrm>
            <a:off x="5105520" y="1981080"/>
            <a:ext cx="12952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21640" y="5791320"/>
            <a:ext cx="467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 content copyright 2004 Google, Inc.  Used by per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ervletArchitecture"/>
          <p:cNvPicPr/>
          <p:nvPr/>
        </p:nvPicPr>
        <p:blipFill>
          <a:blip r:embed="rId1"/>
          <a:stretch/>
        </p:blipFill>
        <p:spPr>
          <a:xfrm>
            <a:off x="3048120" y="1676520"/>
            <a:ext cx="27860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vs. POST method for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string is sent as body of HTTP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query string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if parameter data is intended to cause the server to update sto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rowsers will warn you if they are about to resubmit POST data to avoid duplicate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PostDataMsg"/>
          <p:cNvPicPr/>
          <p:nvPr/>
        </p:nvPicPr>
        <p:blipFill>
          <a:blip r:embed="rId1"/>
          <a:stretch/>
        </p:blipFill>
        <p:spPr>
          <a:xfrm>
            <a:off x="380880" y="2394000"/>
            <a:ext cx="8305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teractive Web sites spread user data entry out ov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ral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dd items to cart, enter shipping information, enter bill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how does the server know which users generated which HTTP requ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y on standard HTTP headers to identify a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46" name="Oval 4"/>
          <p:cNvSpPr/>
          <p:nvPr/>
        </p:nvSpPr>
        <p:spPr>
          <a:xfrm>
            <a:off x="2895480" y="2666880"/>
            <a:ext cx="18288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67920" y="2779560"/>
            <a:ext cx="207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er sends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w 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reques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 flipV="1">
            <a:off x="1981080" y="3047760"/>
            <a:ext cx="114300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52" name="Oval 4"/>
          <p:cNvSpPr/>
          <p:nvPr/>
        </p:nvSpPr>
        <p:spPr>
          <a:xfrm>
            <a:off x="2819520" y="3505320"/>
            <a:ext cx="19810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15640" y="3313080"/>
            <a:ext cx="21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 that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stor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 and send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ck to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sub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2133720" y="3809520"/>
            <a:ext cx="76176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"/>
          <p:cNvSpPr/>
          <p:nvPr/>
        </p:nvSpPr>
        <p:spPr>
          <a:xfrm>
            <a:off x="2971800" y="2057400"/>
            <a:ext cx="1752480" cy="3733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3733920"/>
              <a:gd name="textAreaBottom" fmla="*/ 3648600 h 3733920"/>
            </a:gdLst>
            <a:ahLst/>
            <a:rect l="textAreaLeft" t="textAreaTop" r="textAreaRight" b="textAreaBottom"/>
            <a:pathLst>
              <a:path w="21600" h="46017">
                <a:moveTo>
                  <a:pt x="3600" y="0"/>
                </a:moveTo>
                <a:arcTo wR="3600" hR="3600" stAng="16200000" swAng="-5400000"/>
                <a:lnTo>
                  <a:pt x="0" y="42417"/>
                </a:lnTo>
                <a:arcTo wR="3600" hR="3600" stAng="10800000" swAng="-5400000"/>
                <a:lnTo>
                  <a:pt x="18000" y="46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95800" y="3313080"/>
            <a:ext cx="17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er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t all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. 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 of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known 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ess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4"/>
          <p:cNvSpPr/>
          <p:nvPr/>
        </p:nvSpPr>
        <p:spPr>
          <a:xfrm>
            <a:off x="5257800" y="2133720"/>
            <a:ext cx="1600200" cy="35812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581280"/>
              <a:gd name="textAreaBottom" fmla="*/ 3503160 h 3581280"/>
            </a:gdLst>
            <a:ahLst/>
            <a:rect l="textAreaLeft" t="textAreaTop" r="textAreaRight" b="textAreaBottom"/>
            <a:pathLst>
              <a:path w="21600" h="48335">
                <a:moveTo>
                  <a:pt x="3600" y="0"/>
                </a:moveTo>
                <a:arcTo wR="3600" hR="3600" stAng="16200000" swAng="-5400000"/>
                <a:lnTo>
                  <a:pt x="0" y="44735"/>
                </a:lnTo>
                <a:arcTo wR="3600" hR="3600" stAng="10800000" swAng="-5400000"/>
                <a:lnTo>
                  <a:pt x="18000" y="483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7224840" y="2475000"/>
            <a:ext cx="17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knows th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a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486400" cy="1298520"/>
          </a:xfrm>
          <a:prstGeom prst="rect">
            <a:avLst/>
          </a:prstGeom>
          <a:ln w="0">
            <a:noFill/>
          </a:ln>
        </p:spPr>
      </p:pic>
      <p:sp>
        <p:nvSpPr>
          <p:cNvPr id="268" name="Oval 7"/>
          <p:cNvSpPr/>
          <p:nvPr/>
        </p:nvSpPr>
        <p:spPr>
          <a:xfrm>
            <a:off x="5334120" y="1905120"/>
            <a:ext cx="167616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350600" y="2666880"/>
            <a:ext cx="440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urns HttpSession object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this HTTP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new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ttpSess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 if no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session ID in request or no object with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this ID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therwise, returns previously created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228600" y="3355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oolean indicating whether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object was newly created or al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exi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124080" y="2286000"/>
            <a:ext cx="990720" cy="380880"/>
          </a:xfrm>
          <a:prstGeom prst="ellipse">
            <a:avLst/>
          </a:prstGeom>
          <a:solidFill>
            <a:srgbClr val="c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486400" cy="129852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133720" y="2590920"/>
            <a:ext cx="12952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366280" y="297180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cremented once per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rver starts i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antiates serv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receives HTTP request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termines ne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ynamic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ppropriate serv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generate the response, creates request/response objects, and passes them to a method on the servlet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le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sponse object via method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information stored in respons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Greeting1"/>
          <p:cNvPicPr/>
          <p:nvPr/>
        </p:nvPicPr>
        <p:blipFill>
          <a:blip r:embed="rId1"/>
          <a:stretch/>
        </p:blipFill>
        <p:spPr>
          <a:xfrm>
            <a:off x="2895480" y="1544760"/>
            <a:ext cx="3429000" cy="1477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Greeting2"/>
          <p:cNvPicPr/>
          <p:nvPr/>
        </p:nvPicPr>
        <p:blipFill>
          <a:blip r:embed="rId2"/>
          <a:stretch/>
        </p:blipFill>
        <p:spPr>
          <a:xfrm>
            <a:off x="2895480" y="3200400"/>
            <a:ext cx="3429000" cy="1477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Greeting3"/>
          <p:cNvPicPr/>
          <p:nvPr/>
        </p:nvPicPr>
        <p:blipFill>
          <a:blip r:embed="rId3"/>
          <a:stretch/>
        </p:blipFill>
        <p:spPr>
          <a:xfrm>
            <a:off x="2895480" y="4818240"/>
            <a:ext cx="3429000" cy="1477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536400" y="3429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re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ge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y a single serv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ultiPage"/>
          <p:cNvPicPr/>
          <p:nvPr/>
        </p:nvPicPr>
        <p:blipFill>
          <a:blip r:embed="rId1"/>
          <a:stretch/>
        </p:blipFill>
        <p:spPr>
          <a:xfrm>
            <a:off x="2209680" y="1600200"/>
            <a:ext cx="4410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MultiPage"/>
          <p:cNvPicPr/>
          <p:nvPr/>
        </p:nvPicPr>
        <p:blipFill>
          <a:blip r:embed="rId1"/>
          <a:stretch/>
        </p:blipFill>
        <p:spPr>
          <a:xfrm>
            <a:off x="2209680" y="1600200"/>
            <a:ext cx="4410360" cy="4572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4"/>
          <p:cNvSpPr/>
          <p:nvPr/>
        </p:nvSpPr>
        <p:spPr>
          <a:xfrm>
            <a:off x="3809880" y="1981080"/>
            <a:ext cx="1524240" cy="13716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4419720" y="3124080"/>
            <a:ext cx="24382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708600" y="25146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ession attribut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/value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4419720" y="3429000"/>
            <a:ext cx="1752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695280" y="33894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attribute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v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nul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value u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value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240" y="3429000"/>
            <a:ext cx="242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gn-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sess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w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has no 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eclome-bac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1523880" y="350532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Greeting1"/>
          <p:cNvPicPr/>
          <p:nvPr/>
        </p:nvPicPr>
        <p:blipFill>
          <a:blip r:embed="rId1"/>
          <a:stretch/>
        </p:blipFill>
        <p:spPr>
          <a:xfrm>
            <a:off x="2820960" y="1981080"/>
            <a:ext cx="3730680" cy="1608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Greeting3"/>
          <p:cNvPicPr/>
          <p:nvPr/>
        </p:nvPicPr>
        <p:blipFill>
          <a:blip r:embed="rId2"/>
          <a:stretch/>
        </p:blipFill>
        <p:spPr>
          <a:xfrm>
            <a:off x="2819520" y="3657600"/>
            <a:ext cx="3733560" cy="1608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6"/>
          <p:cNvSpPr/>
          <p:nvPr/>
        </p:nvSpPr>
        <p:spPr>
          <a:xfrm>
            <a:off x="443880" y="2627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gn-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4240" y="43038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elcome-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914400" y="2106720"/>
            <a:ext cx="7467480" cy="2708280"/>
          </a:xfrm>
          <a:prstGeom prst="rect">
            <a:avLst/>
          </a:prstGeom>
          <a:ln w="0">
            <a:noFill/>
          </a:ln>
        </p:spPr>
      </p:pic>
      <p:sp>
        <p:nvSpPr>
          <p:cNvPr id="325" name="Oval 5"/>
          <p:cNvSpPr/>
          <p:nvPr/>
        </p:nvSpPr>
        <p:spPr>
          <a:xfrm>
            <a:off x="5410080" y="2438280"/>
            <a:ext cx="685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5029200" y="342900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177600" y="23623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cond arg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“Greeting”) us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c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relative 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5483160" y="2741760"/>
            <a:ext cx="155520" cy="6858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914400" y="2106720"/>
            <a:ext cx="7467480" cy="2708280"/>
          </a:xfrm>
          <a:prstGeom prst="rect">
            <a:avLst/>
          </a:prstGeom>
          <a:ln w="0">
            <a:noFill/>
          </a:ln>
        </p:spPr>
      </p:pic>
      <p:sp>
        <p:nvSpPr>
          <p:cNvPr id="332" name="Oval 8"/>
          <p:cNvSpPr/>
          <p:nvPr/>
        </p:nvSpPr>
        <p:spPr>
          <a:xfrm>
            <a:off x="3125880" y="3427560"/>
            <a:ext cx="612720" cy="30132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107600" y="277956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will be sent using POST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 (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doPost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 will be c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254240" y="1488960"/>
            <a:ext cx="6634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914400" y="2106720"/>
            <a:ext cx="7467480" cy="2708280"/>
          </a:xfrm>
          <a:prstGeom prst="rect">
            <a:avLst/>
          </a:prstGeom>
          <a:ln w="0">
            <a:noFill/>
          </a:ln>
        </p:spPr>
      </p:pic>
      <p:sp>
        <p:nvSpPr>
          <p:cNvPr id="337" name="Oval 6"/>
          <p:cNvSpPr/>
          <p:nvPr/>
        </p:nvSpPr>
        <p:spPr>
          <a:xfrm>
            <a:off x="5791320" y="3962520"/>
            <a:ext cx="15238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642280" y="43434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field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r name is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7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6360" y="270360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ramet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76520" y="289548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1598760" y="3427560"/>
            <a:ext cx="155520" cy="841320"/>
          </a:xfrm>
          <a:custGeom>
            <a:avLst/>
            <a:gdLst>
              <a:gd name="textAreaLeft" fmla="*/ 99360 w 155520"/>
              <a:gd name="textAreaRight" fmla="*/ 155520 w 155520"/>
              <a:gd name="textAreaTop" fmla="*/ 21600 h 841320"/>
              <a:gd name="textAreaBottom" fmla="*/ 819720 h 8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90880" y="3389400"/>
            <a:ext cx="160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presen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752480" y="3733920"/>
            <a:ext cx="76320" cy="30456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06360" y="35053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Greeting2"/>
          <p:cNvPicPr/>
          <p:nvPr/>
        </p:nvPicPr>
        <p:blipFill>
          <a:blip r:embed="rId1"/>
          <a:stretch/>
        </p:blipFill>
        <p:spPr>
          <a:xfrm>
            <a:off x="2514600" y="2438280"/>
            <a:ext cx="4343400" cy="18734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6"/>
          <p:cNvSpPr/>
          <p:nvPr/>
        </p:nvSpPr>
        <p:spPr>
          <a:xfrm>
            <a:off x="292320" y="30081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nk-you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648320" y="3200400"/>
            <a:ext cx="19810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936480" y="304812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e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XML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ract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1600200" y="403848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141840" y="384660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sig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attribut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Attribute(String name, Object valu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s a session attribute with the given name an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bject getAttribute(String nam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turns the value of the session attribute name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return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is session does not have an attribute with thi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38080" y="1295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form action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servlet1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:&lt;input typ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text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nam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userName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&gt;&lt;br/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input typ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submit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valu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go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/form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4400" y="1522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.io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http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FirstServlet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HttpServlet 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doGet(HttpServletRequest request, HttpServletResponse response)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e.setContentType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text/html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Writer out = response.getWriter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 n=request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.getParame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userName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print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Welcome 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n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Session session=request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.getSession();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1" lang="en-US" sz="1600" spc="-1" strike="noStrike">
                <a:solidFill>
                  <a:srgbClr val="339933"/>
                </a:solidFill>
                <a:latin typeface="verdana"/>
              </a:rPr>
              <a:t>.setAttribu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uname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n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print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&lt;a href='servlet2'&gt;visit&lt;/a&gt;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close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xception e){System.out.println(e);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254240" y="1488960"/>
            <a:ext cx="66340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Oval 4"/>
          <p:cNvSpPr/>
          <p:nvPr/>
        </p:nvSpPr>
        <p:spPr>
          <a:xfrm>
            <a:off x="4572000" y="1371600"/>
            <a:ext cx="1219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855040" y="1179360"/>
            <a:ext cx="25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servlets we will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e subclass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ttp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819520" y="28195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4267080" y="2360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er call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doGet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 response to GE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04920" y="290520"/>
            <a:ext cx="8610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.io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http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SecondServlet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HttpServlet 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doGet(HttpServletRequest request, HttpServletResponse response)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e.setContentType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text/html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Writer out = response.getWriter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Session session=request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.getSes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 n=(String)session</a:t>
            </a:r>
            <a:r>
              <a:rPr b="1" lang="en-US" sz="1600" spc="-1" strike="noStrike">
                <a:solidFill>
                  <a:srgbClr val="33cc33"/>
                </a:solidFill>
                <a:latin typeface="verdana"/>
              </a:rPr>
              <a:t>.getAttribu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uname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print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Hello 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n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close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xception e){System.out.println(e);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1676520" y="426708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215280" y="4151160"/>
            <a:ext cx="17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return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sign-i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, each sessio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pi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a server-determined length of time elapses between a session’s HTTP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destroys the corresponding sess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 code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rm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ession by call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nvalida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n sess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iration time-out 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cs) by call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MaxInactiveInterval(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ok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ame/value pair in the Set-Cookie header field of an HTTP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(not all) clie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cookie received in its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cookie back to the server that sent it as part of the Cookie header field of subsequent HTTP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5"/>
          <p:cNvSpPr/>
          <p:nvPr/>
        </p:nvSpPr>
        <p:spPr>
          <a:xfrm>
            <a:off x="2970360" y="2440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91960" y="29322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mcat s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cookie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SESSION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4"/>
          <p:cNvSpPr/>
          <p:nvPr/>
        </p:nvSpPr>
        <p:spPr>
          <a:xfrm>
            <a:off x="2971800" y="32767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8160" y="3352680"/>
            <a:ext cx="21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-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rows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cookie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SESSION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2971800" y="45720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s can set cookies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ok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used to represent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quest.getCookies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an array of Cookie instances representing cookie data in HTTP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sponse.addCookie(Cooki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s a cookie to the HTTP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457200" y="1901880"/>
            <a:ext cx="8305920" cy="3416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1054440" y="4075200"/>
            <a:ext cx="27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s are expi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 (server ca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piration 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1066680" y="1609560"/>
            <a:ext cx="71629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1066680" y="1609560"/>
            <a:ext cx="7162920" cy="4023000"/>
          </a:xfrm>
          <a:prstGeom prst="rect">
            <a:avLst/>
          </a:prstGeom>
          <a:ln w="0">
            <a:noFill/>
          </a:ln>
        </p:spPr>
      </p:pic>
      <p:sp>
        <p:nvSpPr>
          <p:cNvPr id="424" name="Oval 4"/>
          <p:cNvSpPr/>
          <p:nvPr/>
        </p:nvSpPr>
        <p:spPr>
          <a:xfrm>
            <a:off x="3657600" y="3429000"/>
            <a:ext cx="2362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083280" y="308448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urn array of 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ed in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54240" y="1371600"/>
            <a:ext cx="663408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3581280" y="2895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510720" y="259092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terfaces implemented by request/respons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2590920" y="3262320"/>
            <a:ext cx="2895480" cy="3049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5791320" y="3191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duction servle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tch these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066680" y="1609560"/>
            <a:ext cx="7162920" cy="402300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4"/>
          <p:cNvSpPr/>
          <p:nvPr/>
        </p:nvSpPr>
        <p:spPr>
          <a:xfrm>
            <a:off x="1600200" y="40384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54800" y="3809880"/>
            <a:ext cx="147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arch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UN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trac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an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063800" y="1596960"/>
            <a:ext cx="70164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1063800" y="1596960"/>
            <a:ext cx="7016400" cy="36702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4"/>
          <p:cNvSpPr/>
          <p:nvPr/>
        </p:nvSpPr>
        <p:spPr>
          <a:xfrm>
            <a:off x="1752480" y="2209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3240" y="1981080"/>
            <a:ext cx="17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over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isting cook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1063800" y="1596960"/>
            <a:ext cx="7016400" cy="36702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143280" y="300816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houl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ddCooki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efor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6"/>
          <p:cNvSpPr/>
          <p:nvPr/>
        </p:nvSpPr>
        <p:spPr>
          <a:xfrm>
            <a:off x="2895480" y="3048120"/>
            <a:ext cx="106704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1828800" y="3276360"/>
            <a:ext cx="1219320" cy="15228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14400" y="4038480"/>
            <a:ext cx="380880" cy="6858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iv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295280" y="2895480"/>
            <a:ext cx="1371600" cy="198144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334120" y="2362320"/>
            <a:ext cx="1523880" cy="16761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2666880" y="2666880"/>
            <a:ext cx="26672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820960" y="2286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8"/>
          <p:cNvSpPr/>
          <p:nvPr/>
        </p:nvSpPr>
        <p:spPr>
          <a:xfrm flipH="1">
            <a:off x="2666520" y="2819520"/>
            <a:ext cx="2667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2955960" y="32767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ad &lt;im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5410080" y="4876920"/>
            <a:ext cx="1447920" cy="14475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2666880" y="4343400"/>
            <a:ext cx="27432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3888000" y="419112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3"/>
          <p:cNvSpPr/>
          <p:nvPr/>
        </p:nvSpPr>
        <p:spPr>
          <a:xfrm flipH="1" flipV="1">
            <a:off x="2666880" y="4495320"/>
            <a:ext cx="2743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2806560" y="476100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Set-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rd-party 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5334120" y="2362320"/>
            <a:ext cx="1523880" cy="16761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iv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295280" y="2895480"/>
            <a:ext cx="1371600" cy="198144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6705720" y="1752480"/>
            <a:ext cx="1523880" cy="167652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"/>
          <p:cNvSpPr/>
          <p:nvPr/>
        </p:nvSpPr>
        <p:spPr>
          <a:xfrm flipV="1">
            <a:off x="2666880" y="2057040"/>
            <a:ext cx="40388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2821680" y="213372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to 2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 flipH="1">
            <a:off x="2666520" y="2209680"/>
            <a:ext cx="40388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2955960" y="32767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ad &lt;im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5410080" y="4876920"/>
            <a:ext cx="1447920" cy="14475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2666880" y="4343400"/>
            <a:ext cx="27432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3891960" y="4191120"/>
            <a:ext cx="39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imag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lus Cookie (identifies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2"/>
          <p:cNvSpPr/>
          <p:nvPr/>
        </p:nvSpPr>
        <p:spPr>
          <a:xfrm flipH="1" flipV="1">
            <a:off x="2666880" y="4495320"/>
            <a:ext cx="2743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354840" y="4876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6920640" y="4913280"/>
            <a:ext cx="21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eferer, I know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eb sit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is user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iv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privacy concerns, many user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ing may be fine-tuned.  Ex: Mozilla 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of third-party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based on on-line privac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o cookies for maintaining session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RL re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4"/>
          <p:cNvSpPr/>
          <p:nvPr/>
        </p:nvSpPr>
        <p:spPr>
          <a:xfrm>
            <a:off x="2970360" y="2440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292320" y="2932200"/>
            <a:ext cx="189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mcat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ll URL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erring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125520" y="43434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ID = 4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4"/>
          <p:cNvSpPr/>
          <p:nvPr/>
        </p:nvSpPr>
        <p:spPr>
          <a:xfrm>
            <a:off x="2971800" y="32767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308880" y="335268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ub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 will co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RL of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3125520" y="43434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ID = 4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4"/>
          <p:cNvSpPr/>
          <p:nvPr/>
        </p:nvSpPr>
        <p:spPr>
          <a:xfrm>
            <a:off x="2971800" y="39625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232560" y="373392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xt response 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gain add 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ll URL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125520" y="43434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ID = 4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WSDP Tomcat serv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ception hand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trace appended to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ogs/jwsdp_log.*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document returned to client may (or may not) contain partial stack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rvlet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ystem.out.prin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printStackTrac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s appended to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logs/launcher.server.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relative) UR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href=“URLEncodedGreet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containing session I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href=“URLEncodedGreeting;jsessionid=0157B9E8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parameter is treated differently than query string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nvisible to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Paramet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 rot="16200000">
            <a:off x="6286320" y="239976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5412600" y="41148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Path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tpServlet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ncodeURL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dd session id path parameter to argument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4545000" cy="3348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6476760" cy="534960"/>
          </a:xfrm>
          <a:prstGeom prst="rect">
            <a:avLst/>
          </a:prstGeom>
          <a:ln w="0">
            <a:noFill/>
          </a:ln>
        </p:spPr>
      </p:pic>
      <p:sp>
        <p:nvSpPr>
          <p:cNvPr id="505" name="Oval 6"/>
          <p:cNvSpPr/>
          <p:nvPr/>
        </p:nvSpPr>
        <p:spPr>
          <a:xfrm>
            <a:off x="4343400" y="3429000"/>
            <a:ext cx="11430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5490000" y="3809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lative URL of 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5105520" y="4343400"/>
            <a:ext cx="2286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2880" y="3276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240" y="411480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ing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wri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let URL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86200" y="3276720"/>
            <a:ext cx="167652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1143000" y="4876920"/>
            <a:ext cx="1752480" cy="9903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"/>
          <p:cNvSpPr/>
          <p:nvPr/>
        </p:nvSpPr>
        <p:spPr>
          <a:xfrm flipV="1">
            <a:off x="1905120" y="3657240"/>
            <a:ext cx="1981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374120" y="358128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wri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let URL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3886200" y="3276720"/>
            <a:ext cx="167652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1143000" y="4876920"/>
            <a:ext cx="1752480" cy="9903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6"/>
          <p:cNvSpPr/>
          <p:nvPr/>
        </p:nvSpPr>
        <p:spPr>
          <a:xfrm flipV="1">
            <a:off x="1905120" y="3657240"/>
            <a:ext cx="1981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6248520" y="4876920"/>
            <a:ext cx="175248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>
            <a:off x="2895480" y="541008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3736800" y="495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1374120" y="358128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wri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let URL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886200" y="3276720"/>
            <a:ext cx="167652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1143000" y="4876920"/>
            <a:ext cx="1752480" cy="9903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"/>
          <p:cNvSpPr/>
          <p:nvPr/>
        </p:nvSpPr>
        <p:spPr>
          <a:xfrm flipV="1">
            <a:off x="1905120" y="3657240"/>
            <a:ext cx="1981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1374120" y="358128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6248520" y="4876920"/>
            <a:ext cx="175248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2895480" y="541008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3736800" y="495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 flipH="1" flipV="1">
            <a:off x="5562720" y="3733560"/>
            <a:ext cx="13716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6174360" y="37339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Web sit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 71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1066680" y="1050840"/>
            <a:ext cx="7010640" cy="555156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4348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spons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ata sent to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PrintWri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stored in a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buffer is full, it is automaticall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are sent to the client (preceded by header fields, if this is the first flu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become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l header fields must be defined before the first buffer fl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99560" cy="4950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4354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Pos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rvlets have methods corresponding to other HTTP reque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Head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utomatically defined i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verr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Options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Trac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ful default method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Dele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Pu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verride to support thes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0:41:42Z</dcterms:created>
  <dc:creator>Duquesne University</dc:creator>
  <dc:description/>
  <dc:language>en-US</dc:language>
  <cp:lastModifiedBy>user</cp:lastModifiedBy>
  <dcterms:modified xsi:type="dcterms:W3CDTF">2017-09-29T11:21:11Z</dcterms:modified>
  <cp:revision>29</cp:revision>
  <dc:subject/>
  <dc:title>Chapter 6 Server-side Programming: Java Servlets</dc:title>
</cp:coreProperties>
</file>